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BC3-9234-4B36-80DD-5953DB1D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625-7ECB-4EC5-A5F7-7D3B9F4A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2DB-86DC-4883-9701-923891EC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1BC-E054-4294-B5CF-E09439AD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3783-5264-4144-8E32-3C3206FD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5552-6EC7-4033-87CD-A7647B03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AAF5-CC54-4645-9498-49315A22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1B88-A02F-4C4B-BDE8-4130DB37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2795-25E5-424A-9538-08126389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6132-8103-440A-BF46-21DF2104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41DE-C52D-4BB0-9FD7-FE40291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23D-BDBE-422B-8DB0-70397FDE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8A46-B80A-4E7E-861E-97B7FBEC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CBE-9011-4764-81B1-C9F9DFE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F780-935B-4E4C-ADB9-0C4ED2A3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947A-32F0-41B9-B4D3-368D2485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F0AF-6E3F-481F-B435-FB00964A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5A8-CD06-47D8-924F-96100661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978-03BD-4A4A-9137-2DEA59A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816-A1DA-4993-8A5C-EFD61F2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60E-EDA9-4DAA-A9C7-7DD6001B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6E5-3367-47B0-BAB3-D8B54CB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9A43-6161-44C5-A6D6-BA832ED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EF4-DBA0-4285-A58C-7EA0A77F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2754-8B6E-4998-8FDF-CF2C3B1D1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2BE4-B317-4699-819F-1E421F4E9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7000" y="4508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artment Hea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4" descr="j0363472[1]"/>
          <p:cNvPicPr/>
          <p:nvPr/>
        </p:nvPicPr>
        <p:blipFill>
          <a:blip r:embed="rId1"/>
          <a:stretch/>
        </p:blipFill>
        <p:spPr>
          <a:xfrm>
            <a:off x="5221440" y="2997360"/>
            <a:ext cx="302256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uman Resources Department He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istant Director of Human Resour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orks closely with all other department heads to maintain employee satisfaction and to ensure that proper employment procedures are follow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Organization Chart 9"/>
          <p:cNvGrpSpPr/>
          <p:nvPr/>
        </p:nvGrpSpPr>
        <p:grpSpPr>
          <a:xfrm>
            <a:off x="2987640" y="4510080"/>
            <a:ext cx="3384000" cy="1294920"/>
            <a:chOff x="2987640" y="4510080"/>
            <a:chExt cx="3384000" cy="1294920"/>
          </a:xfrm>
        </p:grpSpPr>
        <p:cxnSp>
          <p:nvCxnSpPr>
            <p:cNvPr id="129" name="_s4100"/>
            <p:cNvCxnSpPr>
              <a:stCxn id="130" idx="0"/>
              <a:endCxn id="131" idx="2"/>
            </p:cNvCxnSpPr>
            <p:nvPr/>
          </p:nvCxnSpPr>
          <p:spPr>
            <a:xfrm flipV="1">
              <a:off x="4679280" y="5027400"/>
              <a:ext cx="3960" cy="25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1" name="_s4101"/>
            <p:cNvSpPr/>
            <p:nvPr/>
          </p:nvSpPr>
          <p:spPr>
            <a:xfrm>
              <a:off x="2987640" y="4510080"/>
              <a:ext cx="3384000" cy="51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Human Resourc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4102"/>
            <p:cNvSpPr/>
            <p:nvPr/>
          </p:nvSpPr>
          <p:spPr>
            <a:xfrm>
              <a:off x="2987640" y="5286960"/>
              <a:ext cx="3384000" cy="518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ssistant Director of H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Department Hea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 large hotel, such as the one in our example, two or more department heads may support the financial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stant Controller(s) are responsible for specific accounting du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Organization Chart 5"/>
          <p:cNvGrpSpPr/>
          <p:nvPr/>
        </p:nvGrpSpPr>
        <p:grpSpPr>
          <a:xfrm>
            <a:off x="2016000" y="4005360"/>
            <a:ext cx="5434920" cy="1869480"/>
            <a:chOff x="2016000" y="4005360"/>
            <a:chExt cx="5434920" cy="1869480"/>
          </a:xfrm>
        </p:grpSpPr>
        <p:cxnSp>
          <p:nvCxnSpPr>
            <p:cNvPr id="135" name="_s5124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277600" y="4207680"/>
              <a:ext cx="374400" cy="1464120"/>
            </a:xfrm>
            <a:prstGeom prst="bentConnector3">
              <a:avLst>
                <a:gd name="adj1" fmla="val 415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5"/>
            <p:cNvCxnSpPr>
              <a:stCxn id="139" idx="0"/>
              <a:endCxn id="137" idx="2"/>
            </p:cNvCxnSpPr>
            <p:nvPr/>
          </p:nvCxnSpPr>
          <p:spPr>
            <a:xfrm flipH="1" flipV="1" rot="5400000">
              <a:off x="3814200" y="4208040"/>
              <a:ext cx="374400" cy="1463400"/>
            </a:xfrm>
            <a:prstGeom prst="bentConnector3">
              <a:avLst>
                <a:gd name="adj1" fmla="val 415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5126"/>
            <p:cNvSpPr/>
            <p:nvPr/>
          </p:nvSpPr>
          <p:spPr>
            <a:xfrm>
              <a:off x="3478680" y="4005360"/>
              <a:ext cx="2508480" cy="74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Financial Controller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5127"/>
            <p:cNvSpPr/>
            <p:nvPr/>
          </p:nvSpPr>
          <p:spPr>
            <a:xfrm>
              <a:off x="2016000" y="5127120"/>
              <a:ext cx="2508480" cy="74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Assistant Controller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(Operations)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5128"/>
            <p:cNvSpPr/>
            <p:nvPr/>
          </p:nvSpPr>
          <p:spPr>
            <a:xfrm>
              <a:off x="4942440" y="5127120"/>
              <a:ext cx="2508480" cy="747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Assistant Controller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Verdana"/>
                </a:rPr>
                <a:t>(Finance)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ccounting Department Head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stant Controller in charge of operations may oversee the reporting and accuracy of documentation regarding the outlets, ancillary revenue sources, and attractions within the res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ssistant Controller in charge of finance may oversee the credit policies, night audit, and the payables/receivables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rt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example of a large resort, other department heads would be in pl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epartment heads are unique and would vary on the size and scope of the hotel’s attr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positions are focused on the management of certain recreational and physical landscape aspects of the hot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rt Deployment Example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5" name="Organization Chart 42"/>
          <p:cNvGrpSpPr/>
          <p:nvPr/>
        </p:nvGrpSpPr>
        <p:grpSpPr>
          <a:xfrm>
            <a:off x="566640" y="1825560"/>
            <a:ext cx="3924000" cy="4267080"/>
            <a:chOff x="566640" y="1825560"/>
            <a:chExt cx="3924000" cy="4267080"/>
          </a:xfrm>
        </p:grpSpPr>
        <p:cxnSp>
          <p:nvCxnSpPr>
            <p:cNvPr id="146" name="_s6148"/>
            <p:cNvCxnSpPr>
              <a:stCxn id="147" idx="1"/>
              <a:endCxn id="148" idx="2"/>
            </p:cNvCxnSpPr>
            <p:nvPr/>
          </p:nvCxnSpPr>
          <p:spPr>
            <a:xfrm rot="10800000">
              <a:off x="1743120" y="2326680"/>
              <a:ext cx="393120" cy="351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6149"/>
            <p:cNvCxnSpPr>
              <a:stCxn id="150" idx="1"/>
              <a:endCxn id="148" idx="2"/>
            </p:cNvCxnSpPr>
            <p:nvPr/>
          </p:nvCxnSpPr>
          <p:spPr>
            <a:xfrm rot="10800000">
              <a:off x="1743120" y="2326680"/>
              <a:ext cx="393120" cy="276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6150"/>
            <p:cNvCxnSpPr>
              <a:stCxn id="152" idx="1"/>
              <a:endCxn id="148" idx="2"/>
            </p:cNvCxnSpPr>
            <p:nvPr/>
          </p:nvCxnSpPr>
          <p:spPr>
            <a:xfrm rot="10800000">
              <a:off x="1743120" y="2326680"/>
              <a:ext cx="393120" cy="2010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6151"/>
            <p:cNvCxnSpPr>
              <a:stCxn id="154" idx="1"/>
              <a:endCxn id="148" idx="2"/>
            </p:cNvCxnSpPr>
            <p:nvPr/>
          </p:nvCxnSpPr>
          <p:spPr>
            <a:xfrm rot="10800000">
              <a:off x="1743120" y="2326680"/>
              <a:ext cx="393120" cy="125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6152"/>
            <p:cNvCxnSpPr>
              <a:stCxn id="156" idx="1"/>
              <a:endCxn id="148" idx="2"/>
            </p:cNvCxnSpPr>
            <p:nvPr/>
          </p:nvCxnSpPr>
          <p:spPr>
            <a:xfrm rot="10800000">
              <a:off x="1743120" y="2326680"/>
              <a:ext cx="393120" cy="50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6153"/>
            <p:cNvSpPr/>
            <p:nvPr/>
          </p:nvSpPr>
          <p:spPr>
            <a:xfrm>
              <a:off x="566640" y="182556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Director of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Recreation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6154"/>
            <p:cNvSpPr/>
            <p:nvPr/>
          </p:nvSpPr>
          <p:spPr>
            <a:xfrm>
              <a:off x="2136240" y="257832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Golf Pro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6155"/>
            <p:cNvSpPr/>
            <p:nvPr/>
          </p:nvSpPr>
          <p:spPr>
            <a:xfrm>
              <a:off x="2136240" y="333144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Tennis Pro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_s6156"/>
            <p:cNvSpPr/>
            <p:nvPr/>
          </p:nvSpPr>
          <p:spPr>
            <a:xfrm>
              <a:off x="2136240" y="408456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anager of Aquatic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6157"/>
            <p:cNvSpPr/>
            <p:nvPr/>
          </p:nvSpPr>
          <p:spPr>
            <a:xfrm>
              <a:off x="2136240" y="4837680"/>
              <a:ext cx="235440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Spa Manag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6158"/>
            <p:cNvSpPr/>
            <p:nvPr/>
          </p:nvSpPr>
          <p:spPr>
            <a:xfrm>
              <a:off x="2136240" y="5590800"/>
              <a:ext cx="2351880" cy="5018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Children’s Activity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Manag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Organization Chart 54"/>
          <p:cNvGrpSpPr/>
          <p:nvPr/>
        </p:nvGrpSpPr>
        <p:grpSpPr>
          <a:xfrm>
            <a:off x="4824360" y="1824120"/>
            <a:ext cx="3924000" cy="2036160"/>
            <a:chOff x="4824360" y="1824120"/>
            <a:chExt cx="3924000" cy="2036160"/>
          </a:xfrm>
        </p:grpSpPr>
        <p:cxnSp>
          <p:nvCxnSpPr>
            <p:cNvPr id="158" name="_s6161"/>
            <p:cNvCxnSpPr>
              <a:stCxn id="159" idx="1"/>
              <a:endCxn id="160" idx="2"/>
            </p:cNvCxnSpPr>
            <p:nvPr/>
          </p:nvCxnSpPr>
          <p:spPr>
            <a:xfrm rot="10800000">
              <a:off x="6000840" y="2332440"/>
              <a:ext cx="393120" cy="127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162"/>
            <p:cNvCxnSpPr>
              <a:stCxn id="162" idx="1"/>
              <a:endCxn id="160" idx="2"/>
            </p:cNvCxnSpPr>
            <p:nvPr/>
          </p:nvCxnSpPr>
          <p:spPr>
            <a:xfrm rot="10800000">
              <a:off x="6000840" y="2333160"/>
              <a:ext cx="393120" cy="509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0" name="_s6163"/>
            <p:cNvSpPr/>
            <p:nvPr/>
          </p:nvSpPr>
          <p:spPr>
            <a:xfrm>
              <a:off x="4824360" y="1824120"/>
              <a:ext cx="2354400" cy="50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Director of Ground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6164"/>
            <p:cNvSpPr/>
            <p:nvPr/>
          </p:nvSpPr>
          <p:spPr>
            <a:xfrm>
              <a:off x="6393960" y="2587680"/>
              <a:ext cx="2354400" cy="50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Head Groundskeep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_s6165"/>
            <p:cNvSpPr/>
            <p:nvPr/>
          </p:nvSpPr>
          <p:spPr>
            <a:xfrm>
              <a:off x="6393960" y="3351240"/>
              <a:ext cx="2354400" cy="50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Golf Ranger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3" name="Text Box 68"/>
          <p:cNvSpPr/>
          <p:nvPr/>
        </p:nvSpPr>
        <p:spPr>
          <a:xfrm>
            <a:off x="7667640" y="5992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5-12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oms Division Department Hea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nt Office Manag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department head responsible for a large portion of the most visible aspects of the hotel’s day-to-day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rector of Servi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be viewed as the “behind-the-scenes” version of the front office man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 Office Manag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ont Office Manager directs the day-to-day activities of the front desk and the uniform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Front Office Manager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Desk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Desk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nt Desk Agent/Guest Service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ll Capta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ll Sta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or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et/Garage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et Parking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ont Office Mana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Front Office Manager (Cont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king Garage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BX Super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BX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ierge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or Of Ser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rector of Services is responsible for the hotel’s housekeeping and laundry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Director of Services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sekeeping Manager/Executive Housekee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stant Executive Housekee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ms Inspector/Senior Housekeep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sekeepers/Room Attend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seper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undry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n Room Attend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ilor/Seamst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od and Beverage Department Hea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a resort or large hotel, the Food and Beverage Director would oversee a very large 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to the Food and Beverage Director ar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ive Che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 of Ca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 of Convention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or of Restaur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verage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ood and Beverage Department Hea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Organization Chart 7"/>
          <p:cNvGrpSpPr/>
          <p:nvPr/>
        </p:nvGrpSpPr>
        <p:grpSpPr>
          <a:xfrm>
            <a:off x="826920" y="1916280"/>
            <a:ext cx="7163280" cy="3820680"/>
            <a:chOff x="826920" y="1916280"/>
            <a:chExt cx="7163280" cy="3820680"/>
          </a:xfrm>
        </p:grpSpPr>
        <p:cxnSp>
          <p:nvCxnSpPr>
            <p:cNvPr id="100" name="_s1028"/>
            <p:cNvCxnSpPr>
              <a:stCxn id="101" idx="1"/>
              <a:endCxn id="102" idx="2"/>
            </p:cNvCxnSpPr>
            <p:nvPr/>
          </p:nvCxnSpPr>
          <p:spPr>
            <a:xfrm rot="10800000">
              <a:off x="2975040" y="2365200"/>
              <a:ext cx="716760" cy="314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1"/>
              <a:endCxn id="102" idx="2"/>
            </p:cNvCxnSpPr>
            <p:nvPr/>
          </p:nvCxnSpPr>
          <p:spPr>
            <a:xfrm rot="10800000">
              <a:off x="2975040" y="2365200"/>
              <a:ext cx="716760" cy="247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1"/>
              <a:endCxn id="102" idx="2"/>
            </p:cNvCxnSpPr>
            <p:nvPr/>
          </p:nvCxnSpPr>
          <p:spPr>
            <a:xfrm rot="10800000">
              <a:off x="2975040" y="2365200"/>
              <a:ext cx="716760" cy="179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31"/>
            <p:cNvCxnSpPr>
              <a:stCxn id="108" idx="1"/>
              <a:endCxn id="102" idx="2"/>
            </p:cNvCxnSpPr>
            <p:nvPr/>
          </p:nvCxnSpPr>
          <p:spPr>
            <a:xfrm rot="10800000">
              <a:off x="2975040" y="2365200"/>
              <a:ext cx="716760" cy="112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32"/>
            <p:cNvCxnSpPr>
              <a:stCxn id="110" idx="1"/>
              <a:endCxn id="102" idx="2"/>
            </p:cNvCxnSpPr>
            <p:nvPr/>
          </p:nvCxnSpPr>
          <p:spPr>
            <a:xfrm rot="10800000">
              <a:off x="2975040" y="2365200"/>
              <a:ext cx="716760" cy="45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3"/>
            <p:cNvSpPr/>
            <p:nvPr/>
          </p:nvSpPr>
          <p:spPr>
            <a:xfrm>
              <a:off x="826920" y="191628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irector of Food and Beverage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4"/>
            <p:cNvSpPr/>
            <p:nvPr/>
          </p:nvSpPr>
          <p:spPr>
            <a:xfrm>
              <a:off x="3692160" y="259056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xecutive Chef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3692160" y="326520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Catering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6"/>
            <p:cNvSpPr/>
            <p:nvPr/>
          </p:nvSpPr>
          <p:spPr>
            <a:xfrm>
              <a:off x="3692160" y="393984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Convention Servic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7"/>
            <p:cNvSpPr/>
            <p:nvPr/>
          </p:nvSpPr>
          <p:spPr>
            <a:xfrm>
              <a:off x="3692160" y="4614480"/>
              <a:ext cx="4298040" cy="449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Restaurant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_s1038"/>
            <p:cNvSpPr/>
            <p:nvPr/>
          </p:nvSpPr>
          <p:spPr>
            <a:xfrm>
              <a:off x="3692160" y="5288760"/>
              <a:ext cx="4298040" cy="448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everage Manage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Text Box 20"/>
          <p:cNvSpPr/>
          <p:nvPr/>
        </p:nvSpPr>
        <p:spPr>
          <a:xfrm>
            <a:off x="7812000" y="59929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5-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les Department Head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rector of Group Sa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responsible specifically for the group room sales ef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ten the Director of Group Sales is personally responsible for key/focus accounts that have important and/or long-term impact on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Organization Chart 16"/>
          <p:cNvGrpSpPr/>
          <p:nvPr/>
        </p:nvGrpSpPr>
        <p:grpSpPr>
          <a:xfrm>
            <a:off x="684360" y="4151160"/>
            <a:ext cx="7740360" cy="1654200"/>
            <a:chOff x="684360" y="4151160"/>
            <a:chExt cx="7740360" cy="1654200"/>
          </a:xfrm>
        </p:grpSpPr>
        <p:cxnSp>
          <p:nvCxnSpPr>
            <p:cNvPr id="115" name="_s2052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430960" y="3935160"/>
              <a:ext cx="330840" cy="2085120"/>
            </a:xfrm>
            <a:prstGeom prst="bentConnector3">
              <a:avLst>
                <a:gd name="adj1" fmla="val 34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3"/>
            <p:cNvCxnSpPr>
              <a:stCxn id="119" idx="0"/>
              <a:endCxn id="117" idx="2"/>
            </p:cNvCxnSpPr>
            <p:nvPr/>
          </p:nvCxnSpPr>
          <p:spPr>
            <a:xfrm flipH="1" flipV="1" rot="5400000">
              <a:off x="3346920" y="3935520"/>
              <a:ext cx="330840" cy="2084760"/>
            </a:xfrm>
            <a:prstGeom prst="bentConnector3">
              <a:avLst>
                <a:gd name="adj1" fmla="val 34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054"/>
            <p:cNvSpPr/>
            <p:nvPr/>
          </p:nvSpPr>
          <p:spPr>
            <a:xfrm>
              <a:off x="2768760" y="4151160"/>
              <a:ext cx="3571560" cy="662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Director of Marketing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5"/>
            <p:cNvSpPr/>
            <p:nvPr/>
          </p:nvSpPr>
          <p:spPr>
            <a:xfrm>
              <a:off x="684360" y="5143320"/>
              <a:ext cx="3571560" cy="662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Director of Group Sale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_s2056"/>
            <p:cNvSpPr/>
            <p:nvPr/>
          </p:nvSpPr>
          <p:spPr>
            <a:xfrm>
              <a:off x="4853160" y="5143320"/>
              <a:ext cx="3571560" cy="662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Verdana"/>
                </a:rPr>
                <a:t>Director of Transient Sales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gineering Department 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3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ef Engine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ordinates the day-to-day maintenance of the hotel’s physical structu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sleeping rooms are the main product of the hotel, the chief engineer may spend most of his/her time checking and assigning sleeping room repair du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3024360" y="4724280"/>
            <a:ext cx="3202560" cy="1296720"/>
            <a:chOff x="3024360" y="4724280"/>
            <a:chExt cx="3202560" cy="1296720"/>
          </a:xfrm>
        </p:grpSpPr>
        <p:cxnSp>
          <p:nvCxnSpPr>
            <p:cNvPr id="123" name="_s3076"/>
            <p:cNvCxnSpPr>
              <a:stCxn id="124" idx="0"/>
              <a:endCxn id="125" idx="2"/>
            </p:cNvCxnSpPr>
            <p:nvPr/>
          </p:nvCxnSpPr>
          <p:spPr>
            <a:xfrm flipV="1">
              <a:off x="4625280" y="5242680"/>
              <a:ext cx="3960" cy="25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5" name="_s3077"/>
            <p:cNvSpPr/>
            <p:nvPr/>
          </p:nvSpPr>
          <p:spPr>
            <a:xfrm>
              <a:off x="3024360" y="4724280"/>
              <a:ext cx="3202560" cy="518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Director of Engineering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3078"/>
            <p:cNvSpPr/>
            <p:nvPr/>
          </p:nvSpPr>
          <p:spPr>
            <a:xfrm>
              <a:off x="3024360" y="5502240"/>
              <a:ext cx="3202560" cy="518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hief Enginee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1T09:55:49Z</dcterms:modified>
  <cp:revision>157</cp:revision>
  <dc:subject/>
  <dc:title>FRONT OFFICE OPERATIONS MANAGEMENT</dc:title>
</cp:coreProperties>
</file>